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CB0-6115-4672-9948-11E05372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369-E093-4124-837C-37C0170F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EBA-1D85-418F-A22D-8EF2DD68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8F8-63E5-4C60-A770-AC754908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DD1D-6F87-416E-8DC3-C3E5216D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8EF5-3EFE-48D8-9A2F-B7180F67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29F4-0679-4B8A-B91C-00337478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EFD2-24D2-4A82-A78F-BE61B67D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4C8B-F7A7-41F9-8956-F6F47B76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700D-CFDC-4C60-959C-53C51F3F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7AE9-3E56-464C-B90D-74613D3A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252-D79A-4B75-B637-AE830396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3D08-4029-4A70-BCB7-FADB77D6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58AD-4566-448F-A8CF-9635FEB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491A-3F90-413A-B784-058E7EC3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F7D3-0949-4A89-B466-995E0301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7A74-5974-4EEF-97C4-CBE8BACA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C4B-9491-4EE3-8D04-67982D0B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9EA-9DCC-49B6-BF10-0700C7AB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5D3-B1F4-4564-8599-911F90E7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5FF-D7ED-46E8-A7BE-A7B6B531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283-B085-4091-A18E-12F240C3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7A9-D384-4631-81C9-53E2095E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D69-68C2-4D4C-9726-1B94C98E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8252-1C4D-42D0-A287-309E18506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EB3E-662B-4ACA-BE67-0C399DBC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The Constitutional Conven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5334120" cy="351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4360" y="5867280"/>
            <a:ext cx="522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historyteacher.net/AHAP/WebQuests/WQ-ConstitutionalConvention/ConstituitonalConventionPtg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19520"/>
            <a:ext cx="2743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delegates gathered in Philadelphia during the summer of 17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avery Under Attack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4724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790, every state except South Carolina and Georgia had abolished the importation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aves within their b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esult, a higher proportion of slaves were American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2616480" cy="2921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248160" y="5486400"/>
            <a:ext cx="201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i174.photobucket.com/albums/w95/guate210/ESCLAVE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question was whether or not states with large numbers of slaves should be able to count them for purposes of re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3/5 Comprom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ctated that blacks be counted as three-fifths of a white resident for purposes of re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ging another political bullet, the founders agreed that slavery as an institution could not end for at least twen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8880" y="-60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Struggle Over Ratification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ok less than a year to secure the nine states needed to win ra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81080" y="2144880"/>
            <a:ext cx="51055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Grand Conven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es gathered at Independence Hall in Philadelphia, Pennsylvania in 1787 to draft a blueprint for a new and better form of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495680" cy="3057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16080" y="4876920"/>
            <a:ext cx="1716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www.geocities.com/sharpphotos/philly/indhall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otable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Delegat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25920" y="1981080"/>
            <a:ext cx="2394000" cy="2819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2200" y="4800600"/>
            <a:ext cx="2584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artofmanliness.com/wp-content/uploads/2008/02/ben_franklin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819160" cy="2335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840" y="4419720"/>
            <a:ext cx="2462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coolaggregator.files.wordpress.com/2008/07/george-washington-picture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400800" y="1981080"/>
            <a:ext cx="2173320" cy="2908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77120" y="4952880"/>
            <a:ext cx="1963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i24.photobucket.com/albums/c8/thomasn528/madison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105520"/>
            <a:ext cx="266688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hosen as the convention president -- all deliberations were to be kept secr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5800" y="510552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jamin Frankl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ldest at age 8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18440" y="5105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 Mad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otably Absen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Jefferson and John Adams (both serving as ambassadors in Europe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2578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ick Henry refused to attend, believing that state governments offered the best protection for personal liberties. He worried that a strong national government would erode the ideals fought for during the revolu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971800" cy="271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6120" y="4724280"/>
            <a:ext cx="2530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richmondthenandnow.com/Images/Famous-Visitors/Thomas-Jefferson-big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9920" y="1981080"/>
            <a:ext cx="2117520" cy="2578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91320" y="4572000"/>
            <a:ext cx="2661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www.americanheritage.com/assets/images/articles/web/20080320-JohnAdams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0800" y="380880"/>
            <a:ext cx="4194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greemen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01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s of Confederation needed to be fi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government must have authority to tax people, raise and support armed forces, regulate commerce/trade, and make and enforce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ed idea of separating government into 3 branches to guard against abuse of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8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reas of Conflic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929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power be divided between states and the national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states with small populations and states with large populations be represented fair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states from the north, whose economies were not so tied to slavery, compromise with states from the south whose economies relied heavily on slave lab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Rise of Federalism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upporters who wanted a strong, cent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-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upporters who feared a strong, central government and wanted states to hold most of th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89560" y="1295280"/>
            <a:ext cx="162072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43800" y="2236680"/>
            <a:ext cx="1295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i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1981080" cy="190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11160" y="6095880"/>
            <a:ext cx="2137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www.idea-sandbox.com/blog/blog_images/thomas_jefferson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9960" y="3581280"/>
            <a:ext cx="3413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upload.wikimedia.org/wikipedia/commons/thumb/c/ca/Alexander_Hamilton.jpg/425px-Alexander_Hamilton.jp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4876920"/>
            <a:ext cx="1295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888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romises over Representation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752480"/>
          <a:ext cx="8381880" cy="44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381880" cy="4492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5715000" y="24382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abb"/>
                </a:solidFill>
                <a:latin typeface="Arial"/>
              </a:rPr>
              <a:t>Which states had the largest total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abb"/>
                </a:solidFill>
                <a:latin typeface="Arial"/>
              </a:rPr>
              <a:t>Which states had the largest slave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afting the Constitu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irginia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for proportional representation.  States with a large population favored this plan, since they would have more represent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Jersey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for equal representation. States with a small population favored this plan, since they would have an equal number of representatives compared to large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Comprom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d for two houses in Congress — one based on proportional representation and one based on equal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5638680"/>
            <a:ext cx="2971800" cy="762120"/>
          </a:xfrm>
          <a:prstGeom prst="bevel">
            <a:avLst>
              <a:gd name="adj" fmla="val 12500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8672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se of Represent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5638680"/>
            <a:ext cx="2971800" cy="762120"/>
          </a:xfrm>
          <a:prstGeom prst="bevel">
            <a:avLst>
              <a:gd name="adj" fmla="val 12500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58672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64008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representation based on population (today 435 me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64008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representation (today 100 members - 50 states X 2 Senators e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y Bongard</cp:lastModifiedBy>
  <dcterms:modified xsi:type="dcterms:W3CDTF">2009-09-28T19:42:56Z</dcterms:modified>
  <cp:revision>28</cp:revision>
  <dc:subject/>
  <dc:title>Chapter 7 Consolidating the Revolution</dc:title>
</cp:coreProperties>
</file>